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D42-B1A7-428F-8839-073B00CB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623-CDE1-47D3-9645-D58EDC73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54F-DE78-4B92-B6C0-EDA90C2B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5DF-EE00-4047-A922-D9AA7C28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2E2E-5BC9-40D7-8839-FDD918FA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5538-56E3-4EF8-A90C-605DEE3A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2277-1089-4492-8483-542989EF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8DE1-C08C-4E48-B11A-BBE6827D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A3F0-AB43-4438-8BE1-8403DFFC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2B2C-E348-4DC3-8DBA-C66D1DD5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C26C-2F37-4F2E-8990-E0E3B710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CF7-CACB-4FC0-9E2A-CAB5E4A2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FAAF-5D72-4CA3-BE52-D1E9730B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A8FD-F7C2-43DF-8A37-A10ADB0F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7C76-5F03-4405-A6B2-5A94BED6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8597-661D-4E85-A742-5D187680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9DA8-72A8-41FF-A34C-0712DFEA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AECC1-9798-4AC8-A27C-0EFA1CCC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4214E-8BD5-4C72-90FA-B4B33641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16AE0-59E3-4FAB-816F-9A78D333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28298-B097-4F2A-9CD9-1F9A4666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0ED5B-046E-434E-8D88-3EB7FF6A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B0B-F9B1-46CE-AFD9-F1381C20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3307-EAC9-453D-B5E3-100DCE7B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5C9D-A7DD-4E35-A30D-66189EB0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64AAB-4CC3-42A8-8A37-D2F6F1F7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5B179-58AD-4BE4-9A90-7FE8ADEC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B31D4-2727-4972-9DDB-5A1C4ED3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E8CC1-ACE9-40FA-8C95-8DAA4CEA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E93E0-CA46-4E49-B5D9-024698A3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50453-8D48-4C3B-9408-186DC07F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4C1E8-2681-40B1-A980-26554E54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60CA-14FD-4D90-9547-D62BA57B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3B2-1F40-4029-AFB3-09C107C6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D1ACA-CAB8-4E49-AE68-282386D9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38356-4B98-489A-85E0-F9CA2FF5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A8650-5FCF-4BD3-AF18-B2F585C8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78596-31E3-43E2-974D-CC860C72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5E772-FFFC-43A5-B9B5-0C8A928A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00BCA-4DFB-4A2D-8830-483062A6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5619D-1169-4F84-B497-5EAE3B76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1568D-D7FD-4520-BF27-026545C4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4A498-5A05-4BC0-9C7C-BFE8252D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60E70-CCE3-497F-8F83-334993BB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D57-0C39-4CB0-9EFF-4657F5DC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D65ED-409D-45BD-B05C-F4CF71D9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74CD4-D757-498A-AAE3-DB0643AD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FA44D-3D00-4500-88B9-9FEF3815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E8C73-D85E-45BB-86A7-F88E18D8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A8BA6-995D-432F-AC7B-7E1AC200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04F92-572F-4415-9047-1365E398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F1475-9D9E-4C1B-B3D2-CE24D344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9834F-5DF1-4F85-B9EC-D19FF1A3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32FD9-2066-40BC-8FAE-D153532A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1C07A-E8C1-412B-9E7B-E742A490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E70-4515-4C3C-B765-B72B9A29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8FDC9-ADF6-4623-9898-EED1B215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60B81-7F0C-4C2A-BB10-EB8B4E44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C3B2C-B7C1-4289-A8DA-99DB93FF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35D47-4E01-432B-9D8C-758ADF44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56F9F-5288-4AC2-A893-633C2785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B987C-E2FD-4F9C-8ADC-05A2FE4F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82A2A-8EF7-4AAB-ACCD-7B633585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92A91-1902-4ECD-BE67-EF415ED6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8F533-D426-4489-AEA9-2EE5EE1B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EE447-B568-4956-A9CE-466B194E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BE9-BB98-4E79-919D-E333FE81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C7EC2-60B5-4BA4-9A3A-FEC406C6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635C4-D073-43F6-B6DE-31CED71B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81200-4064-4C40-9171-1EE3DF86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5D841-D872-484D-BCA2-4C1E7235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EA0F5-BDFF-4391-A84B-8ABA20DF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3B88C-A85C-4917-A7FD-501DD9A9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B5AEB-57D0-43FD-B99D-878215A8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55CB9-8A18-49C6-A0C7-90AFC615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6CFB1-4A37-4F82-90A0-49FB75EA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FE750-53B5-4F9A-9360-F89D8EBA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D95-C1DD-4D89-B0B2-F62141C3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79D04-1B32-4504-8FB4-9478E586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DDC3F-3CDA-44D0-A3A4-1B4944C9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9C3E1-F10C-4EDE-A068-5F314272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31843-8064-4A3A-8ED7-516C7312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A535D-A6A9-41FC-8754-8C8CD533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CEDEA-AC40-4D75-9493-2394E8B9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AD4D0-E937-44F1-A57D-E4A18EFC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77CF7-90ED-4083-9029-7201C81E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95E41-EF83-456F-A9F9-F04E938F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042B6-76DD-476D-BFA0-6A4ADB96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B33-2CB5-46A1-91A3-06D38146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3A37B-D3EA-4239-8F7D-05630E2C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8D877-922D-400C-9EB9-2D7490FB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DAA48-638E-4149-9A27-5E5F6467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CFF6E-246F-4492-A910-C1FAFC32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48A4A-9A47-402A-AD5C-B7C3C67D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250FE-7B8A-411C-AA76-0A4DD470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85F8B-8ADA-4B44-ACD0-0F9017DD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5DE5-F8B6-49F5-88CF-106DCD3DE9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EF57-DD0E-4D51-8881-78A0A784C68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A1B7-8E10-4224-9850-9EE7EEF640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D36C-B02F-49F2-B2CA-7BB13DC072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5A96-9F32-4B62-A938-971F1DD39B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DBAE-8417-4E7E-A9A9-636537DECB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88C2-397D-4796-9822-53384379A8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F128-F63F-4C29-B967-40E613CF41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C:\Users\KBPO\Desktop\G SIR G\PPT\G sir G PPT\NAGPUR\COLD STORA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old Storage Unit Type 2 with Multiple  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emperature Zones And Basic Material Handling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85880"/>
                <a:gridCol w="2085840"/>
                <a:gridCol w="1406520"/>
                <a:gridCol w="2144880"/>
                <a:gridCol w="1360440"/>
                <a:gridCol w="136044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r.n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er MT In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roject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bsidy In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1MT  to 6500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7.5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1 MT To 8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1 To 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d Storage Units Type 2 With Add On Technology For Controlled Atmo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0" y="0"/>
          <a:ext cx="9220320" cy="6858000"/>
        </p:xfrm>
        <a:graphic>
          <a:graphicData uri="http://schemas.openxmlformats.org/drawingml/2006/table">
            <a:tbl>
              <a:tblPr/>
              <a:tblGrid>
                <a:gridCol w="792000"/>
                <a:gridCol w="2103480"/>
                <a:gridCol w="1417680"/>
                <a:gridCol w="2163960"/>
                <a:gridCol w="1371600"/>
                <a:gridCol w="1371600"/>
              </a:tblGrid>
              <a:tr h="298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r.n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er MT In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roject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bsidy In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4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chnology Induction And Modernization Of Cold Cha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85880"/>
                <a:gridCol w="2085840"/>
                <a:gridCol w="1406520"/>
                <a:gridCol w="2144880"/>
                <a:gridCol w="1360440"/>
                <a:gridCol w="1360440"/>
              </a:tblGrid>
              <a:tr h="304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.n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MT In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idy In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04920" y="2438280"/>
            <a:ext cx="8534160" cy="4114800"/>
          </a:xfrm>
          <a:prstGeom prst="rect">
            <a:avLst/>
          </a:prstGeom>
          <a:solidFill>
            <a:srgbClr val="ec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WordArt 3"/>
          <p:cNvSpPr txBox="1"/>
          <p:nvPr/>
        </p:nvSpPr>
        <p:spPr>
          <a:xfrm>
            <a:off x="1295280" y="457200"/>
            <a:ext cx="6858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98" name="Rectangle 4" descr=""/>
          <p:cNvPicPr/>
          <p:nvPr/>
        </p:nvPicPr>
        <p:blipFill>
          <a:blip r:embed="rId1"/>
          <a:stretch/>
        </p:blipFill>
        <p:spPr>
          <a:xfrm>
            <a:off x="878040" y="2852640"/>
            <a:ext cx="8272440" cy="3024360"/>
          </a:xfrm>
          <a:prstGeom prst="rect">
            <a:avLst/>
          </a:prstGeom>
          <a:ln w="0">
            <a:noFill/>
          </a:ln>
        </p:spPr>
      </p:pic>
      <p:sp>
        <p:nvSpPr>
          <p:cNvPr id="399" name="TextBox 4"/>
          <p:cNvSpPr/>
          <p:nvPr/>
        </p:nvSpPr>
        <p:spPr>
          <a:xfrm>
            <a:off x="6553080" y="65642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Garamond"/>
              </a:rPr>
              <a:t>www.industrialsubsid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6"/>
          <p:cNvSpPr/>
          <p:nvPr/>
        </p:nvSpPr>
        <p:spPr>
          <a:xfrm>
            <a:off x="108000" y="3375000"/>
            <a:ext cx="8807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APITAL INVESTMENT SUBSIDY SCHEME FOR CONSTRUCTION /EXPANSION/MODERNIZATION OF COLD STORAGES/STORAGES HORTICULTURE PRODU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Cold-Storage.jpg"/>
          <p:cNvPicPr/>
          <p:nvPr/>
        </p:nvPicPr>
        <p:blipFill>
          <a:blip r:embed="rId1"/>
          <a:stretch/>
        </p:blipFill>
        <p:spPr>
          <a:xfrm>
            <a:off x="1835280" y="0"/>
            <a:ext cx="5257800" cy="34560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3"/>
          <p:cNvSpPr/>
          <p:nvPr/>
        </p:nvSpPr>
        <p:spPr>
          <a:xfrm>
            <a:off x="6553080" y="65642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Garamond"/>
              </a:rPr>
              <a:t>www.industrialsubsid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0"/>
            <a:ext cx="9144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king Application for a Letter of Intent under the scheme“ Capital Investment Subsidy Scheme for Construction / Expansion / Modernization  of Cold  Storages / Storag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company1.jpg"/>
          <p:cNvPicPr/>
          <p:nvPr/>
        </p:nvPicPr>
        <p:blipFill>
          <a:blip r:embed="rId1"/>
          <a:stretch/>
        </p:blipFill>
        <p:spPr>
          <a:xfrm>
            <a:off x="0" y="2133720"/>
            <a:ext cx="9155160" cy="47242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6553080" y="6488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www.industrialsubsid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324000" y="328464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ONENTS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Credit linked projects relating to cold storages including  controlled atmosphere (CA) and modified atmosphere (MA) stores, pre-cooling units, other storages for onion, etc., their modernization are eligible for assistance under this compo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11multi-commodity-cold-stor-250x250.jpg"/>
          <p:cNvPicPr/>
          <p:nvPr/>
        </p:nvPicPr>
        <p:blipFill>
          <a:blip r:embed="rId1"/>
          <a:stretch/>
        </p:blipFill>
        <p:spPr>
          <a:xfrm>
            <a:off x="1835280" y="0"/>
            <a:ext cx="5184720" cy="3284640"/>
          </a:xfrm>
          <a:prstGeom prst="rect">
            <a:avLst/>
          </a:prstGeom>
          <a:ln w="0">
            <a:noFill/>
          </a:ln>
        </p:spPr>
      </p:pic>
      <p:sp>
        <p:nvSpPr>
          <p:cNvPr id="379" name="TextBox 3"/>
          <p:cNvSpPr/>
          <p:nvPr/>
        </p:nvSpPr>
        <p:spPr>
          <a:xfrm>
            <a:off x="6553080" y="65642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Garamond"/>
              </a:rPr>
              <a:t>www.industrialsubsid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"/>
          <p:cNvSpPr/>
          <p:nvPr/>
        </p:nvSpPr>
        <p:spPr>
          <a:xfrm>
            <a:off x="0" y="37735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</a:t>
            </a:r>
            <a:r>
              <a:rPr b="0" lang="en-US" sz="2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PATTERN OR ASSISTANCE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The assistance will be as credit linked back-ended subsidy @35% of the capital cost of project in general areas and 50% in case of Hilly &amp;  scheduled areas for a maximum storage capacity of 10000 MT per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rupee7_325_0228110249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767040"/>
          </a:xfrm>
          <a:prstGeom prst="rect">
            <a:avLst/>
          </a:prstGeom>
          <a:ln w="0">
            <a:noFill/>
          </a:ln>
        </p:spPr>
      </p:pic>
      <p:sp>
        <p:nvSpPr>
          <p:cNvPr id="382" name="TextBox 3"/>
          <p:cNvSpPr/>
          <p:nvPr/>
        </p:nvSpPr>
        <p:spPr>
          <a:xfrm>
            <a:off x="6553080" y="65642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Garamond"/>
              </a:rPr>
              <a:t>www.industrialsubsid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1"/>
          <p:cNvSpPr/>
          <p:nvPr/>
        </p:nvSpPr>
        <p:spPr>
          <a:xfrm>
            <a:off x="0" y="44280"/>
            <a:ext cx="91440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GENERAL CONDITIONS FOR COLD STORAGE PROJECTS: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                        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Garamond"/>
                <a:ea typeface="Arial Unicode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Multi-chamber cold storage with mezzanine floors of R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Garamond"/>
                <a:ea typeface="Arial Unicode MS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002060"/>
                </a:solidFill>
                <a:latin typeface="Garamond"/>
                <a:ea typeface="Arial Unicode MS"/>
              </a:rPr>
              <a:t>AND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wooden structure for products not requiring pre-cooling, temp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range 0 degree Celsius plus  to 16 degree Celsius or above  with fin-c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cooling system, with control system for humidity (RH 80% to 95%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general and 65%-70% for onion &amp; garlic or appropriate level for s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storage etc) and appropriate handling of stored commodity with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system against accidents of fire, leakage of refrigerant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Minimum of two chambers, standard insulation material, with civil structure, insulations and cooling system as per prescribed standard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"/>
          <p:cNvSpPr/>
          <p:nvPr/>
        </p:nvSpPr>
        <p:spPr>
          <a:xfrm>
            <a:off x="6553080" y="65642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Garamond"/>
              </a:rPr>
              <a:t>www.industrialsubsid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618.jpg"/>
          <p:cNvPicPr/>
          <p:nvPr/>
        </p:nvPicPr>
        <p:blipFill>
          <a:blip r:embed="rId1"/>
          <a:stretch/>
        </p:blipFill>
        <p:spPr>
          <a:xfrm>
            <a:off x="1692360" y="0"/>
            <a:ext cx="5327640" cy="39956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4"/>
          <p:cNvSpPr/>
          <p:nvPr/>
        </p:nvSpPr>
        <p:spPr>
          <a:xfrm>
            <a:off x="0" y="4365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Garamond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002060"/>
                </a:solidFill>
                <a:latin typeface="Garamond"/>
              </a:rPr>
              <a:t>CAPITAL COST PER TON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aramond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@Rs 8,000 per M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5000 MT  @Rs 8,000 per MT =4 CR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UBSIDY@35% ON 4 CRORE =1.4 CR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UBSIDY@50% ON 4 CRORE =2.00CR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6553080" y="65642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Garamond"/>
              </a:rPr>
              <a:t>www.industrialsubsid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85880"/>
                <a:gridCol w="2085840"/>
                <a:gridCol w="1406520"/>
                <a:gridCol w="2144880"/>
                <a:gridCol w="1511280"/>
                <a:gridCol w="1209600"/>
              </a:tblGrid>
              <a:tr h="14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r.n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er MT In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roject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bsidy In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1MT  to 6500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.9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1 MT To 8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1 To 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 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8T11:21:48Z</dcterms:created>
  <dc:creator>pc11</dc:creator>
  <dc:description/>
  <dc:language>en-US</dc:language>
  <cp:lastModifiedBy>KBPO</cp:lastModifiedBy>
  <dcterms:modified xsi:type="dcterms:W3CDTF">2015-12-09T07:09:47Z</dcterms:modified>
  <cp:revision>23</cp:revision>
  <dc:subject/>
  <dc:title>Slide 1</dc:title>
</cp:coreProperties>
</file>