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AA2E-C4DB-4100-BC53-F634FC25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A4D-ECFA-41EA-BA1C-408117B91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05B-4C5C-43E8-B356-82F62F82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6D4-72E3-4F84-818D-1835033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72D-7923-4AFD-A17B-E6C78C81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AF0-81FB-4543-AB96-5ADAD6A6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8C8-25AB-49EB-86DC-26FF7503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B31-B2F1-4AE4-A2B1-A6FCFC8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88D-B905-4367-BEA5-7E757BD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BE8A-BD8D-41D3-9055-A242FE4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0F4-1C72-4AB4-B8CD-FBFE2986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491-934A-4203-A509-34DAD6AA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4E2-A722-4EA6-92B3-1B0D6352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932-83A9-4AE0-B893-5FA49368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0D2-3543-4BB8-838B-19438C8D7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lated image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146160" y="-152280"/>
            <a:ext cx="8851680" cy="4157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4191120"/>
            <a:ext cx="9198000" cy="26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10040" y="4406760"/>
            <a:ext cx="23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mbria"/>
              </a:rPr>
              <a:t>PRESENT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986360" y="4952880"/>
            <a:ext cx="410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CA. Ramesh S. Prab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airman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, MahaSe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b.:- 9820106766 / 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ail:- rsprabhu1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D:\Main Data\User\Desktop\RSPJPG.png"/>
          <p:cNvPicPr/>
          <p:nvPr/>
        </p:nvPicPr>
        <p:blipFill>
          <a:blip r:embed="rId3"/>
          <a:stretch/>
        </p:blipFill>
        <p:spPr>
          <a:xfrm>
            <a:off x="2670120" y="4392720"/>
            <a:ext cx="197820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32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35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OTHERS EXPEN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41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44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228600" y="1523880"/>
          <a:ext cx="8686800" cy="457200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WITHDRAWAL TILL 31ST M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LANCE (EXCESS WITHDRAW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C5-W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Straight Connector 6"/>
          <p:cNvSpPr/>
          <p:nvPr/>
        </p:nvSpPr>
        <p:spPr>
          <a:xfrm>
            <a:off x="4267080" y="3352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"/>
          <p:cNvSpPr/>
          <p:nvPr/>
        </p:nvSpPr>
        <p:spPr>
          <a:xfrm>
            <a:off x="4267080" y="411480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8"/>
          <p:cNvSpPr/>
          <p:nvPr/>
        </p:nvSpPr>
        <p:spPr>
          <a:xfrm>
            <a:off x="4267080" y="40384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extBox 1" descr=""/>
          <p:cNvPicPr/>
          <p:nvPr/>
        </p:nvPicPr>
        <p:blipFill>
          <a:blip r:embed="rId1"/>
          <a:stretch/>
        </p:blipFill>
        <p:spPr>
          <a:xfrm>
            <a:off x="-652320" y="1792440"/>
            <a:ext cx="9656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5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1523880"/>
          <a:ext cx="8686800" cy="4992840"/>
        </p:xfrm>
        <a:graphic>
          <a:graphicData uri="http://schemas.openxmlformats.org/drawingml/2006/table">
            <a:tbl>
              <a:tblPr/>
              <a:tblGrid>
                <a:gridCol w="762120"/>
                <a:gridCol w="2895480"/>
                <a:gridCol w="2057400"/>
                <a:gridCol w="1828800"/>
                <a:gridCol w="114300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ROM BEGINNING OF THE PROJECT TILL 31ST MARCH,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6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762120"/>
                <a:gridCol w="304776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OTHE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N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NK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7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7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0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76720"/>
                <a:gridCol w="198108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OR 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 (1ST APRIL, 2017 TO 31ST MARCH,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84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87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228600" y="1523880"/>
          <a:ext cx="8686800" cy="4754520"/>
        </p:xfrm>
        <a:graphic>
          <a:graphicData uri="http://schemas.openxmlformats.org/drawingml/2006/table">
            <a:tbl>
              <a:tblPr/>
              <a:tblGrid>
                <a:gridCol w="533520"/>
                <a:gridCol w="327636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OTHER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WN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NK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93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6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228600" y="1523880"/>
          <a:ext cx="8686800" cy="415152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II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ORROW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COLLECTION 31ST M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9" name="Straight Connector 4"/>
          <p:cNvSpPr/>
          <p:nvPr/>
        </p:nvSpPr>
        <p:spPr>
          <a:xfrm>
            <a:off x="4267080" y="4648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4267080" y="5486400"/>
            <a:ext cx="46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aight Connector 9"/>
          <p:cNvSpPr/>
          <p:nvPr/>
        </p:nvSpPr>
        <p:spPr>
          <a:xfrm>
            <a:off x="4267080" y="5410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0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0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228600" y="1523880"/>
          <a:ext cx="8686800" cy="500220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6916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DRAWALS BEGINNING OF THE PROJECT TILL 31ST MARCH,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14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17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OTHERS EXPEN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8400" y="192240"/>
            <a:ext cx="878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ANNUAL CONSOLIDATED STATE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OF REAL ESTATE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3"/>
          <p:cNvSpPr/>
          <p:nvPr/>
        </p:nvSpPr>
        <p:spPr>
          <a:xfrm>
            <a:off x="304920" y="1392120"/>
            <a:ext cx="57150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23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26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28600" y="1523880"/>
          <a:ext cx="8686800" cy="4664160"/>
        </p:xfrm>
        <a:graphic>
          <a:graphicData uri="http://schemas.openxmlformats.org/drawingml/2006/table">
            <a:tbl>
              <a:tblPr/>
              <a:tblGrid>
                <a:gridCol w="609480"/>
                <a:gridCol w="3200400"/>
                <a:gridCol w="2057400"/>
                <a:gridCol w="1828800"/>
                <a:gridCol w="990720"/>
              </a:tblGrid>
              <a:tr h="21963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 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ULAR OPERATION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YEAR (1ST APRIL, 2017 TO 31ST MARCH, 2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14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2T12:23:17Z</dcterms:created>
  <dc:creator>USER</dc:creator>
  <dc:description/>
  <dc:language>en-US</dc:language>
  <cp:lastModifiedBy>user</cp:lastModifiedBy>
  <dcterms:modified xsi:type="dcterms:W3CDTF">2019-11-21T04:13:44Z</dcterms:modified>
  <cp:revision>77</cp:revision>
  <dc:subject/>
  <dc:title>PowerPoint Presentation</dc:title>
</cp:coreProperties>
</file>