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F61-83BC-498D-B323-E836FFED2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5EBB-4168-4D47-891D-245A8DCE2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716-023D-43C6-9AA2-408E7A63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216-C227-4CF8-AA0E-99AB74F0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E6F-7A8C-41A6-8A12-E5EFCE69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110-15DB-4480-A36E-6C6A4D72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12B-C06D-4798-83DE-33759290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AD6-23E8-40BB-8809-4F74605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50A-C45F-49B6-931E-778CB9B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238-A465-490A-8FDB-C44BDDB2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6DC-EC5B-4B87-A0D5-0C0D562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1E7-C4AF-45C1-9A36-889F363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DA5-6CDB-4BBF-976C-62FD0CA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2C0-8C92-48C3-95F7-4068F5C4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00F1-D783-40F5-B8B1-25053D055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elated image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-85680" y="-55440"/>
            <a:ext cx="9424800" cy="4371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0" y="4191120"/>
            <a:ext cx="9198000" cy="2666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710040" y="4406760"/>
            <a:ext cx="23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ambria"/>
              </a:rPr>
              <a:t>PRESENT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986360" y="4952880"/>
            <a:ext cx="410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CA. Ramesh S. Prab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airman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, MahaSe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b.:- 9820106766 / 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ail:- rsprabhu13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D:\Main Data\User\Desktop\RSPJPG.png"/>
          <p:cNvPicPr/>
          <p:nvPr/>
        </p:nvPicPr>
        <p:blipFill>
          <a:blip r:embed="rId3"/>
          <a:stretch/>
        </p:blipFill>
        <p:spPr>
          <a:xfrm>
            <a:off x="2670120" y="4392720"/>
            <a:ext cx="1978200" cy="23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57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0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228600" y="1523880"/>
          <a:ext cx="8686800" cy="50482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264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F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216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OM ALLOTT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THE TIME OF REGIST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LLECTION DURING THE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66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69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1" name=""/>
          <p:cNvGraphicFramePr/>
          <p:nvPr/>
        </p:nvGraphicFramePr>
        <p:xfrm>
          <a:off x="228600" y="1523880"/>
          <a:ext cx="8686800" cy="475452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264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COLLECTION (10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92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OUNT TO 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POSITED IN RERA ACCOUNT (70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Straight Connector 2"/>
          <p:cNvSpPr/>
          <p:nvPr/>
        </p:nvSpPr>
        <p:spPr>
          <a:xfrm>
            <a:off x="4267080" y="3276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4267080" y="4038480"/>
            <a:ext cx="4648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9"/>
          <p:cNvSpPr/>
          <p:nvPr/>
        </p:nvSpPr>
        <p:spPr>
          <a:xfrm>
            <a:off x="4267080" y="39625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78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81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3" name=""/>
          <p:cNvGraphicFramePr/>
          <p:nvPr/>
        </p:nvGraphicFramePr>
        <p:xfrm>
          <a:off x="228600" y="1523880"/>
          <a:ext cx="8686800" cy="462780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THDRAW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26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THE TIME OF REGIST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87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90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2" name=""/>
          <p:cNvGraphicFramePr/>
          <p:nvPr/>
        </p:nvGraphicFramePr>
        <p:xfrm>
          <a:off x="228600" y="1523880"/>
          <a:ext cx="8686800" cy="420696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AT THE TIME OF REGISTRA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4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96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99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228600" y="1523880"/>
          <a:ext cx="8686800" cy="462780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RING THE YEAR (1ST APRI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ST MARCH 201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LAND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42084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192240"/>
            <a:ext cx="8836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ANNUAL STATEMENT OF 70% UTILISA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Century Gothic"/>
              </a:rPr>
              <a:t>TOWARDS COST OF THE PROJEC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3"/>
          <p:cNvSpPr/>
          <p:nvPr/>
        </p:nvSpPr>
        <p:spPr>
          <a:xfrm>
            <a:off x="304920" y="1392120"/>
            <a:ext cx="685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Round Same Side Corner Rectangle 12"/>
          <p:cNvGrpSpPr/>
          <p:nvPr/>
        </p:nvGrpSpPr>
        <p:grpSpPr>
          <a:xfrm>
            <a:off x="-60480" y="-30240"/>
            <a:ext cx="9253800" cy="206280"/>
            <a:chOff x="-60480" y="-30240"/>
            <a:chExt cx="9253800" cy="206280"/>
          </a:xfrm>
        </p:grpSpPr>
        <p:pic>
          <p:nvPicPr>
            <p:cNvPr id="105" name="Round Same Side Corner Rectangle 12" descr=""/>
            <p:cNvPicPr/>
            <p:nvPr/>
          </p:nvPicPr>
          <p:blipFill>
            <a:blip r:embed="rId1"/>
            <a:stretch/>
          </p:blipFill>
          <p:spPr>
            <a:xfrm>
              <a:off x="-60480" y="-30240"/>
              <a:ext cx="92538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0" y="14400"/>
              <a:ext cx="91314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Round Same Side Corner Rectangle 13"/>
          <p:cNvGrpSpPr/>
          <p:nvPr/>
        </p:nvGrpSpPr>
        <p:grpSpPr>
          <a:xfrm>
            <a:off x="-73080" y="6626160"/>
            <a:ext cx="9272520" cy="298440"/>
            <a:chOff x="-73080" y="6626160"/>
            <a:chExt cx="9272520" cy="298440"/>
          </a:xfrm>
        </p:grpSpPr>
        <p:pic>
          <p:nvPicPr>
            <p:cNvPr id="108" name="Round Same Side Corner Rectangle 13" descr=""/>
            <p:cNvPicPr/>
            <p:nvPr/>
          </p:nvPicPr>
          <p:blipFill>
            <a:blip r:embed="rId2"/>
            <a:stretch/>
          </p:blipFill>
          <p:spPr>
            <a:xfrm>
              <a:off x="-73080" y="6626160"/>
              <a:ext cx="92725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1440" y="6669000"/>
              <a:ext cx="9136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228600" y="1523880"/>
          <a:ext cx="8686800" cy="50482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057400"/>
                <a:gridCol w="1904760"/>
                <a:gridCol w="990720"/>
              </a:tblGrid>
              <a:tr h="168300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 RERA DESIGNATED AC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HER BANK ACCOU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 w="5760">
                      <a:solidFill>
                        <a:srgbClr val="8064a2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WARDS CONSTRUCTION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64a2"/>
                      </a:solidFill>
                    </a:lnT>
                    <a:lnB>
                      <a:noFill/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84168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 WITHDRAW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1800"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LANCE (EXCESS WITHDRAW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C4-W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8080" marR="28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64a2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1" name="Straight Connector 6"/>
          <p:cNvSpPr/>
          <p:nvPr/>
        </p:nvSpPr>
        <p:spPr>
          <a:xfrm>
            <a:off x="4267080" y="457200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traight Connector 7"/>
          <p:cNvSpPr/>
          <p:nvPr/>
        </p:nvSpPr>
        <p:spPr>
          <a:xfrm>
            <a:off x="4267080" y="5257800"/>
            <a:ext cx="4648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traight Connector 8"/>
          <p:cNvSpPr/>
          <p:nvPr/>
        </p:nvSpPr>
        <p:spPr>
          <a:xfrm>
            <a:off x="4267080" y="518148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Box 1" descr=""/>
          <p:cNvPicPr/>
          <p:nvPr/>
        </p:nvPicPr>
        <p:blipFill>
          <a:blip r:embed="rId1"/>
          <a:stretch/>
        </p:blipFill>
        <p:spPr>
          <a:xfrm>
            <a:off x="-652320" y="1792440"/>
            <a:ext cx="96566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2T12:23:17Z</dcterms:created>
  <dc:creator>USER</dc:creator>
  <dc:description/>
  <dc:language>en-US</dc:language>
  <cp:lastModifiedBy>user</cp:lastModifiedBy>
  <dcterms:modified xsi:type="dcterms:W3CDTF">2019-11-21T04:14:53Z</dcterms:modified>
  <cp:revision>82</cp:revision>
  <dc:subject/>
  <dc:title>PowerPoint Presentation</dc:title>
</cp:coreProperties>
</file>